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FF88-6474-4473-BC6A-8326E063A6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7237-7FA4-4979-B9F6-0C31CBD4123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2DBB-BC05-4E88-A330-8738B7583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1CCD-870F-4F69-8C76-7E8FFFB7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0A0E-A8CA-4764-AB41-F9B8F632C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D14F-4CE4-4A6A-807A-EF05A6F79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C1D9-54D1-48F5-8BEB-55ACB5E5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2BED-95D8-4AA2-BB16-3CA1ED54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64CC-0A62-4BCE-9F85-04B458DF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84C0-A1EC-43E2-9B91-DC700541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2D2F-6885-4190-AF37-0DF40583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8A89-1923-4CE2-99FC-FE3653C0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C1CD-BFAC-45DE-A846-F901782C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820C-05CD-4563-90F1-EB5706DF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7D70-11A8-42EA-B65D-CC90671E981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400D-AD2B-4D43-9215-779194C0FE6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C09E-4BFC-4BE7-AD61-45CFD08469C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ACCION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es lide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G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“no” a las cosa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pequeñ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9" name="Picture 8" descr="http://www.clipartlord.com/wp-content/uploads/2014/05/hospital6.png"/>
          <p:cNvPicPr/>
          <p:nvPr/>
        </p:nvPicPr>
        <p:blipFill>
          <a:blip r:embed="rId1"/>
          <a:stretch/>
        </p:blipFill>
        <p:spPr>
          <a:xfrm>
            <a:off x="4753080" y="692280"/>
            <a:ext cx="3600360" cy="299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611280" y="3800520"/>
            <a:ext cx="27367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18080-3553-4700-BD9E-2E9AA5310D8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ga “no”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DE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da en términ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EJOR INTERÉ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ara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persona que lo pid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fier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proponga una alternativa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omo decir “No” con gracia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84" name="Group 2"/>
          <p:cNvGrpSpPr/>
          <p:nvPr/>
        </p:nvGrpSpPr>
        <p:grpSpPr>
          <a:xfrm>
            <a:off x="6519960" y="1143000"/>
            <a:ext cx="2590560" cy="2489040"/>
            <a:chOff x="6519960" y="1143000"/>
            <a:chExt cx="2590560" cy="2489040"/>
          </a:xfrm>
        </p:grpSpPr>
        <p:pic>
          <p:nvPicPr>
            <p:cNvPr id="85" name="Picture 4" descr=""/>
            <p:cNvPicPr/>
            <p:nvPr/>
          </p:nvPicPr>
          <p:blipFill>
            <a:blip r:embed="rId1"/>
            <a:stretch/>
          </p:blipFill>
          <p:spPr>
            <a:xfrm>
              <a:off x="6519960" y="1143000"/>
              <a:ext cx="2590560" cy="24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1"/>
            <p:cNvSpPr/>
            <p:nvPr/>
          </p:nvSpPr>
          <p:spPr>
            <a:xfrm>
              <a:off x="8337600" y="1611000"/>
              <a:ext cx="409320" cy="86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 rot="20508000">
              <a:off x="8324640" y="1655640"/>
              <a:ext cx="26496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2368-7746-4B4C-B403-C5FD334DFFB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5564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ga listas de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QU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EBO HACER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 Establezca su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IORIDAD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Evite el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ERFECCIONIS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1" name="Picture 17" descr="j0234760"/>
          <p:cNvPicPr/>
          <p:nvPr/>
        </p:nvPicPr>
        <p:blipFill>
          <a:blip r:embed="rId1"/>
          <a:stretch/>
        </p:blipFill>
        <p:spPr>
          <a:xfrm>
            <a:off x="90360" y="4680"/>
            <a:ext cx="1312920" cy="165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www.clker.com/cliparts/1/3/a/a/12284172421897139812CoD_fsfe_Checklist_icon.svg.hi.png"/>
          <p:cNvPicPr/>
          <p:nvPr/>
        </p:nvPicPr>
        <p:blipFill>
          <a:blip r:embed="rId2"/>
          <a:srcRect l="15140" t="10295" r="10611" b="8610"/>
          <a:stretch/>
        </p:blipFill>
        <p:spPr>
          <a:xfrm>
            <a:off x="6443640" y="1268280"/>
            <a:ext cx="2016000" cy="219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ttp://cauldronsandcupcakes.files.wordpress.com/2013/09/list.jpg?w=584"/>
          <p:cNvPicPr/>
          <p:nvPr/>
        </p:nvPicPr>
        <p:blipFill>
          <a:blip r:embed="rId3"/>
          <a:stretch/>
        </p:blipFill>
        <p:spPr>
          <a:xfrm>
            <a:off x="590400" y="3595680"/>
            <a:ext cx="1820880" cy="1704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6372360" y="5146560"/>
            <a:ext cx="2087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33F7-2E6B-4B25-A887-47210507C96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UESTION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to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 Déle la bienvenida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a la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ENSIÓ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vite el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SORDEN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-24300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8" name="Picture 2" descr="http://images.clipartpanda.com/question-Kin57o5iq.gif"/>
          <p:cNvPicPr/>
          <p:nvPr/>
        </p:nvPicPr>
        <p:blipFill>
          <a:blip r:embed="rId1"/>
          <a:srcRect l="0" t="0" r="0" b="33035"/>
          <a:stretch/>
        </p:blipFill>
        <p:spPr>
          <a:xfrm>
            <a:off x="7093080" y="162000"/>
            <a:ext cx="1800000" cy="293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thumbs.dreamstime.com/thumblarge_551/1288410346h4TAEa.jpg"/>
          <p:cNvPicPr/>
          <p:nvPr/>
        </p:nvPicPr>
        <p:blipFill>
          <a:blip r:embed="rId2"/>
          <a:stretch/>
        </p:blipFill>
        <p:spPr>
          <a:xfrm>
            <a:off x="539640" y="2352600"/>
            <a:ext cx="2594160" cy="2781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http://www.buzzle.com/images/cliparts/messy-desk.jpg"/>
          <p:cNvPicPr/>
          <p:nvPr/>
        </p:nvPicPr>
        <p:blipFill>
          <a:blip r:embed="rId3"/>
          <a:stretch/>
        </p:blipFill>
        <p:spPr>
          <a:xfrm>
            <a:off x="5651640" y="499104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ED82-FD10-4025-B6FC-75E7E882438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08000" y="76500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Evi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OSPONE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Controle la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ERRUPCIONE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y DISTRACCION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5940360" y="1082520"/>
            <a:ext cx="3024360" cy="1525680"/>
            <a:chOff x="5940360" y="1082520"/>
            <a:chExt cx="3024360" cy="1525680"/>
          </a:xfrm>
        </p:grpSpPr>
        <p:sp>
          <p:nvSpPr>
            <p:cNvPr id="105" name="Rectangle 2"/>
            <p:cNvSpPr/>
            <p:nvPr/>
          </p:nvSpPr>
          <p:spPr>
            <a:xfrm>
              <a:off x="5940360" y="1082520"/>
              <a:ext cx="3024360" cy="152568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" name="TextBox 1"/>
            <p:cNvSpPr/>
            <p:nvPr/>
          </p:nvSpPr>
          <p:spPr>
            <a:xfrm>
              <a:off x="6015960" y="1604160"/>
              <a:ext cx="287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 Extra Bold"/>
                  <a:ea typeface="Gill Sans Extra Bold"/>
                </a:rPr>
                <a:t>POSPONER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7" name="Picture 6" descr=""/>
            <p:cNvPicPr/>
            <p:nvPr/>
          </p:nvPicPr>
          <p:blipFill>
            <a:blip r:embed="rId1"/>
            <a:stretch/>
          </p:blipFill>
          <p:spPr>
            <a:xfrm>
              <a:off x="6474600" y="1082520"/>
              <a:ext cx="1955880" cy="152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14" descr="http://www.christart.com/IMAGES-art9ab/clipart/509/avoid-distractions.png"/>
          <p:cNvPicPr/>
          <p:nvPr/>
        </p:nvPicPr>
        <p:blipFill>
          <a:blip r:embed="rId2"/>
          <a:srcRect l="0" t="33728" r="37516" b="0"/>
          <a:stretch/>
        </p:blipFill>
        <p:spPr>
          <a:xfrm>
            <a:off x="277920" y="4149720"/>
            <a:ext cx="28033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F753-A1CA-47A8-BA19-6B7539367C3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79280" y="10396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Delegue su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BILIDADE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Use un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LENDAR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rcRect l="11151" t="4694" r="4346" b="10560"/>
          <a:stretch/>
        </p:blipFill>
        <p:spPr>
          <a:xfrm>
            <a:off x="4932360" y="7635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324000" y="3997440"/>
            <a:ext cx="325584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FEEF-5772-41A2-AF1C-210623E1DA5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0" y="105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valuación: Tres preguntas sabias…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¿QUÉ SE REQUIERE DE MI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¿QUÉ ES LO QUE ME DA LOS MEJORES RESULTADOS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¿QUÉ ES LO QUE ME DA MAYO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RECOMPENSA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E65E-D936-4FF5-BE2C-8ADAB1415D7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324000" y="429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recursos para compartir los talleres están aquí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ww.MieddRecursos.MesoamericaRegion.org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Correo: Mcyr@MesoamericaRegion.or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Map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3851280" y="28440"/>
            <a:ext cx="19954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14AE-A76A-4534-8059-02DA244D76F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69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COMENTARIO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PREGUNTAS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18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Prioridades y toma de decisiones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ciendo rendir el tiemp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Garamond"/>
              </a:rPr>
              <a:t>(Lección #6, página 34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8B44-FC06-49EB-8C8D-24EF0ACD352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1258920" y="2205000"/>
            <a:ext cx="64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!!Guías ciegos, que coláis el mosquito, y tragáis el camello!!”  </a:t>
            </a:r>
            <a:br>
              <a:rPr sz="54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Mateo 23:2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E364-B78F-4889-B0FE-B38300AC037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1440" y="1197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Garamond"/>
              </a:rPr>
              <a:t>Respuestas bíblicas sobre prioridades…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" name="Picture 5" descr="http://www.clipartbest.com/cliparts/di6/7qX/di67qX4i9.jpeg"/>
          <p:cNvPicPr/>
          <p:nvPr/>
        </p:nvPicPr>
        <p:blipFill>
          <a:blip r:embed="rId1"/>
          <a:stretch/>
        </p:blipFill>
        <p:spPr>
          <a:xfrm>
            <a:off x="2987640" y="3500280"/>
            <a:ext cx="3309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A785-DFB1-46AB-A8CE-BB551703EAE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4076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evantándose muy de mañana, siendo aún muy oscuro, salió y se fue a un lugar desierto, y allí oraba. Y le buscó Simón, y los que con él estaban; y hallándole, le dijeron: Todos te buscan. Él les dijo: Vamos a los lugares vecinos, para que predique también allí; porque para esto he venido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973B-B8F2-4D23-9D72-16BE3A4D7F0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250920" y="3860640"/>
            <a:ext cx="49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El tiempo con su padre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Picture 6" descr="http://www.thecoloringpics.com/images/2014/06/Cherish-Your-Church-Sunday-School-Lessons-for-the-Home.jpg"/>
          <p:cNvPicPr/>
          <p:nvPr/>
        </p:nvPicPr>
        <p:blipFill>
          <a:blip r:embed="rId1"/>
          <a:stretch/>
        </p:blipFill>
        <p:spPr>
          <a:xfrm>
            <a:off x="5796000" y="2743200"/>
            <a:ext cx="3208320" cy="402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D1BB-C440-44BD-8E2B-56F135FE23C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¿Cuáles son las prioridades de los Cristianos? </a:t>
            </a:r>
            <a:r>
              <a:rPr b="1" lang="es-GT" sz="3600" spc="-1" strike="noStrike">
                <a:solidFill>
                  <a:srgbClr val="ffffff"/>
                </a:solidFill>
                <a:latin typeface="Garamond"/>
              </a:rPr>
              <a:t>(Lucas 10:39-42, Maria y Marta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76976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lación con Di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Lucas 10:39-42, Matt. 22:37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400" spc="-1" strike="noStrike">
                <a:solidFill>
                  <a:srgbClr val="ffffff"/>
                </a:solidFill>
                <a:latin typeface="Garamond"/>
              </a:rPr>
              <a:t>Relación con su esposa(o)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Relaciónes con sus hij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Tu salud – fisica, mental, social, emocional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Cor. 6:19 – cuerpo es un templo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Garamond"/>
              </a:rPr>
              <a:t>Ministerio en: Trabajo / Escuela / Iglesia / Etc.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 (Matt. 28:18-19, Acts 6:2-4,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0E04-B68B-47E5-9DA0-C0CBE8AD6F1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Pagina 36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9056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ACTIV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quivale a log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Trabaje má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LIGENTEMEN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no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más duro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364000" y="1547640"/>
            <a:ext cx="3630600" cy="281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ec.l.thumbs.canstockphoto.com/canstock15210914.jpg"/>
          <p:cNvPicPr/>
          <p:nvPr/>
        </p:nvPicPr>
        <p:blipFill>
          <a:blip r:embed="rId2"/>
          <a:stretch/>
        </p:blipFill>
        <p:spPr>
          <a:xfrm>
            <a:off x="179280" y="3836880"/>
            <a:ext cx="230508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A6F9-C25F-493F-8BBF-5F1A3396D07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GANI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agoni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estánque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Póngal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ORARI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a sus prior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3" name="Picture 6" descr="http://tortolatailspin.onmason.com/files/2012/09/file_cabinet.gif"/>
          <p:cNvPicPr/>
          <p:nvPr/>
        </p:nvPicPr>
        <p:blipFill>
          <a:blip r:embed="rId1"/>
          <a:stretch/>
        </p:blipFill>
        <p:spPr>
          <a:xfrm>
            <a:off x="6012000" y="901800"/>
            <a:ext cx="143964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ttp://sr.photos3.fotosearch.com/bthumb/CSP/CSP551/k5510289.jpg"/>
          <p:cNvPicPr/>
          <p:nvPr/>
        </p:nvPicPr>
        <p:blipFill>
          <a:blip r:embed="rId2"/>
          <a:stretch/>
        </p:blipFill>
        <p:spPr>
          <a:xfrm>
            <a:off x="324000" y="2060640"/>
            <a:ext cx="2877840" cy="287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www.anglaisfacile.com/cgi2/myexam/images2/26318.gif"/>
          <p:cNvPicPr/>
          <p:nvPr/>
        </p:nvPicPr>
        <p:blipFill>
          <a:blip r:embed="rId3"/>
          <a:stretch/>
        </p:blipFill>
        <p:spPr>
          <a:xfrm>
            <a:off x="5172120" y="4694400"/>
            <a:ext cx="22986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4T00:39:42Z</dcterms:modified>
  <cp:revision>90</cp:revision>
  <dc:subject/>
  <dc:title>PowerPoint Presentation</dc:title>
</cp:coreProperties>
</file>